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CEDE-05B1-42A9-A36B-B0433D970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58BD-4F7B-4256-9A7D-35430B49DA8C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42FE-F4BE-4441-9EA6-7BFC82F2BF5B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3DF0-D11C-4DAD-B8DF-24C69385A321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A8BB-45F4-4000-A163-56F70C9E6B8D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4332-B86B-43C3-A7AA-0B0FEE5409D6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402B-0A5E-4DC1-BD75-9D80A4BC47C5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767D-BA00-428F-AA64-CA99F44A987F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D0DA-5272-4627-BB9E-A9DF752B6A31}" type="slidenum">
              <a:rPr b="0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23C-7752-4AA9-8BC6-54444536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49B-DC7C-4065-BEA1-1C5536DA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B79-1122-4243-B8AB-5E8CC5FE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866-A2D7-406F-9FE2-4019601C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0004-825E-41A0-A317-0F2EF9F5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0A8A-5729-4B2A-92A6-2AF8DFC9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862F-DE96-49C6-B24D-E12126A2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74A6-7001-4861-B44F-A22959A3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4C5F-7A38-42CB-B10A-F652CF1B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F75B-BCA9-4327-B8BE-90A08BBF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ED58-14BC-4976-A868-9A62A2A3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AC35-B044-4E25-AE0B-21E16698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A0C8-F266-4E50-955C-09B03907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1912-BB1C-4F68-8AB9-C11973F9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8F47-E6AB-4E7B-9298-86821495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BB4E-452F-4DBE-9008-2951D30A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2760-3E20-496D-83AF-FF12F15B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863BB-6ECD-4F6D-AADE-7BE1CC52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6FFDA-A221-42B1-9FA3-9A115937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788C7-E846-41AC-8AE6-3B837E7A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1B50-DC9D-49E8-BE07-00E07FB1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D668-490D-470A-B962-BB5EB651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983-D418-45F5-8B37-0758E10D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E302-CBD8-451F-B750-078EFFCA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B49F1-992B-4DD6-ACF5-C4B61E7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FD784-732F-43AD-8B0E-A44C091C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EFCB-BDF2-4D12-ADAE-595C4156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A1C43-99DE-4D56-A9A2-BA4D577C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4A3E-C20D-42EF-9BB1-BC01CF80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72F8A-14AC-4CEA-83B9-C497F68C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E3DD5-C10E-4015-832C-55BFB4A1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1FE47-4D48-430F-ABF1-6B70F52D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4FCAD-9F29-4F14-A6C2-9F9C805B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0EB-59B1-49F5-9D7B-39C7CA45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6F4BA-F5E7-496D-A144-F82B1C12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C9F26-FB0E-4975-8C95-DA82312A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C6581-42FB-48C8-B963-5EAA28DD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1BB7F-17D4-4F22-AE22-EE4513EB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BD29-87FC-43C0-9DBA-F0809A12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47C5-7731-4271-B826-053DC494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71434-E34E-4FD2-A002-1166AF30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A6B13-2152-45BF-9179-F3AD70E1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C012E-E083-494C-A3CA-2C434CA6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B60-9AC5-4E1C-97B3-AED51BDE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01C-F9EF-497F-A000-44784444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2F8-4F59-4B0D-8BAC-CE05E685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3CF-BCFA-4FF3-BE31-7FEC71CB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5AB-E557-46C3-826B-DE9EBFDC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F3E1-58A4-4C71-90CC-0E9A9D66F6B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77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78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80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3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88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1DFA-ED1B-483E-AEF3-98FEBA37C8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231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232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233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234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235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36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237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9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40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241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2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3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244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5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6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247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8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9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250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2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253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56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8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59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1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262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3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4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265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7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268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271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3" name="Group 183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274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6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77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8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9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280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1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2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83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4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5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286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7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8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289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0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1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292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3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4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295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6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97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298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99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0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301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2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03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05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306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07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08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309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0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1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312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3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4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315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6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17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318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19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0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321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2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3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324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5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6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327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8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29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330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1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2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333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4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335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336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7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338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339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340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1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2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3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4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5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6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47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348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349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0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1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2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3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4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5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6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7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8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59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0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1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62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B7EE-16D6-45B1-BFBD-D4A6000F485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0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0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0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sp>
          <p:nvSpPr>
            <p:cNvPr id="40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0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1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grpSp>
          <p:nvGrpSpPr>
            <p:cNvPr id="41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41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41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6283-ED57-4870-B010-E978E47FB4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720" y="1844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ning Your Presentational Skill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Picture 1" descr="th.jpg"/>
          <p:cNvPicPr/>
          <p:nvPr/>
        </p:nvPicPr>
        <p:blipFill>
          <a:blip r:embed="rId1"/>
          <a:stretch/>
        </p:blipFill>
        <p:spPr>
          <a:xfrm>
            <a:off x="2414520" y="2971800"/>
            <a:ext cx="4824360" cy="320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nciples of teaching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a direct teach lesson: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the objective (s) clear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 the students as mu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possible (try to break u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elivery of content b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nking the information and inserting several brain breaks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 and model the concep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 &amp; A or some other review at the closure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1" name="Picture 1" descr="th-1.jpg"/>
          <p:cNvPicPr/>
          <p:nvPr/>
        </p:nvPicPr>
        <p:blipFill>
          <a:blip r:embed="rId1"/>
          <a:stretch/>
        </p:blipFill>
        <p:spPr>
          <a:xfrm>
            <a:off x="6400800" y="2133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oing a teach: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Take note of the importance of the three skills of presenting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bal:  What you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cal:  How you say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:  How you look and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13480" y="1981080"/>
            <a:ext cx="369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5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5" name="Picture 8" descr="MCj02975670000[1]"/>
          <p:cNvPicPr/>
          <p:nvPr/>
        </p:nvPicPr>
        <p:blipFill>
          <a:blip r:embed="rId1"/>
          <a:stretch/>
        </p:blipFill>
        <p:spPr>
          <a:xfrm>
            <a:off x="3429000" y="4889520"/>
            <a:ext cx="2743200" cy="143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Visual: how you look &amp; ac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ess professional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welcoming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ye communication – Look at every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y language – Be open to the stud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rculate whenever possi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tion – Use an anticipatory se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ding – Review what was learned; ha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 and answer se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 you using visual aids to make th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 more comprehensible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8" name="Picture 4" descr="MCj03341680000[1]"/>
          <p:cNvPicPr/>
          <p:nvPr/>
        </p:nvPicPr>
        <p:blipFill>
          <a:blip r:embed="rId1"/>
          <a:stretch/>
        </p:blipFill>
        <p:spPr>
          <a:xfrm>
            <a:off x="7015320" y="4419720"/>
            <a:ext cx="1823760" cy="205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ocal: how you say i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e enthusiasm, sincerity, and confid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n the positive, not the nega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y the rhythm, rate, and volume of your vo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smooth transitions.  Prepare the students 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 regarding upcoming changes in activit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For example, you may say something like, “Before we move on to the next activity, does anyone have any questions?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unciate and project your voic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on avoiding saying, “You guys,” “uh,” “um,” etc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erbal: what you sa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you provide accurate informati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know the answer to a question, don</a:t>
            </a:r>
            <a:r>
              <a:rPr b="0" lang="ja-JP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make up an answ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on the timing of what you do and s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sure that what you are saying coincides with any references you make to visuals and other instructional material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pare the teac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 your lesson objective(s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cipate the types of questions you might be asked and be ready with appropriate respons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visual aids that wil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HANCE your presentation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e prepared with all of yo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eria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, practice, and practi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mor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5" name="Picture 1" descr="th-2.jpg"/>
          <p:cNvPicPr/>
          <p:nvPr/>
        </p:nvPicPr>
        <p:blipFill>
          <a:blip r:embed="rId1"/>
          <a:stretch/>
        </p:blipFill>
        <p:spPr>
          <a:xfrm>
            <a:off x="6400800" y="32767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 Black"/>
              </a:rPr>
              <a:t>Success!</a:t>
            </a:r>
            <a:endParaRPr b="0" lang="en-US" sz="5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67652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will do a SUPERB job!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21:11:18Z</dcterms:created>
  <dc:creator> </dc:creator>
  <dc:description/>
  <dc:language>en-US</dc:language>
  <cp:lastModifiedBy>Karen Verkler</cp:lastModifiedBy>
  <dcterms:modified xsi:type="dcterms:W3CDTF">2017-01-01T11:55:40Z</dcterms:modified>
  <cp:revision>51</cp:revision>
  <dc:subject/>
  <dc:title>Slide 1</dc:title>
</cp:coreProperties>
</file>